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B69-4CA1-4499-B13F-C74BCFE2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A0E-5C4F-4272-AE68-994BBAFC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8D657-AF8E-4745-A34E-C80D2F72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529D0-8846-4F54-9459-3077825A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B2D52-C7E2-41D5-A323-54BC570C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7AB45-A99E-41F4-8D0A-3722D606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6B11C-6125-4A72-AD48-A90621FA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E13E7-C549-4230-A3EA-7E9E3FA4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785EC-4AFB-4DEE-8164-37ED3FDC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71201-C2A2-4EED-8C51-CE52E332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0BCA2-94A7-4F73-AA4A-174BD36B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C6102-6093-4968-8609-CA188641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D80A-9711-4C8C-B5C4-5860F4DE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BAD88-BBF0-47F4-ABB9-F12250FD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B5FD2-D562-4215-B809-F2E7D951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3D9D1-A014-4CD0-82AC-A82BFA53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ECB67-1AB8-49B7-92D2-FDAD9785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B9F18-52BD-4682-99E4-3838D8CA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46294-E9FC-47C2-B604-8546CE3D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D1C3E-67BB-42E4-A3F5-4150F0DE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EE181-7887-44D1-833F-D4BABDDD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57FD6-D6AE-44DD-B999-0332FEA2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4BE25-ECBE-4611-9059-47495565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6D9B-CEC0-49BC-A418-9D4D18D6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AB125-6F5C-42AA-A1EB-592CB581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0A67E-D943-4AE3-952A-928B54D3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C6C2D-BE85-48B1-8491-7F57264C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E5056-4D2C-4A71-8699-0947F858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08186-2E31-4CB0-8FB1-2B370F6F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7285B-1DD7-4272-A177-1400D10B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73C81-8212-4C65-AA43-A86E44DC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FF137-B460-47C5-A7C4-F1C02486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FDC44-A071-4386-92C6-DBD590BC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C99C2-57FE-42D8-B7F8-B6D9E8FB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D78F-332B-4195-AD4B-3FFBB11B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67B95-1D5D-42A8-AE63-3C5B2335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CF3C8-9437-4488-A41E-3BA54B6E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97F29-63FD-409E-8A64-B645A004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35BF1-9391-4A9F-9FD2-EA042D2B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44F99-1BC5-46A7-BB90-16E3D24C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6C1A1-ECBC-4052-8D0C-EEE5FE0E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2DBF8-E062-457B-B129-27400E33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BB2DA-71C8-46C7-BA45-FBA3B418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9D9CA-0C1F-4E2C-8A51-6406B5AB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5678F-98EA-4C98-95C2-879D672E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89E1-32A2-4D11-B375-3B51B3A6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ABCB3-8E4E-46B8-AF77-7B8B0670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E0268-8C3A-4178-8F86-80B2DA17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3E617-7CF6-4D42-9407-7A22618F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CD2E5-22B4-4F1C-B3EB-C323A8B5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72BAA-86D7-44C5-8C7E-A6ED7796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703AD-EAF3-4D97-BCA6-7F10C57B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0C44B-68D8-43CD-8C8E-1209901D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60168-46BD-4E7A-ABE8-BC313359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01F01-0786-4F4E-B684-0CBC5065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EE9B2-02CA-4914-A07C-9B36A7C8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4993-4EB2-4506-A258-696B1B1F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FD8BD-8859-40A5-BDCA-083E9E1A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C7CA22-7222-414B-ADC8-F87EDCA4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3950C-10D9-4E6C-8B6D-F6F6576F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80EB86-7941-4FED-91BB-7A87698A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768EE-52E7-4D88-8524-0DDD2262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FEAAB-8B2B-42A8-BF8C-43ABBB3C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B6C20-8E9D-41A1-B08B-1FE07CCF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9E4C3C-559F-404C-89F8-5204D335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51F95-4B9B-45FF-9FAF-75B06CF1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C2F946-2692-410B-9A2F-52C1ED46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E165-B64C-40D2-AD48-7E061367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EF0E09-6F5B-4AF4-B46F-677A4886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37E833-EC87-4906-96B4-7582A8A4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B4C60-C6E9-4EB5-926F-8C240B27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A3803B-CA5A-41F7-8476-093390CE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9AF42B-8252-4155-A84F-50622578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FC8F0-B7A9-436B-96C6-1CAE734D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4B614C-E3DF-4E3C-8558-DBC4065A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392146-244D-4E47-9697-4AFC6AC0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C7D30F-52B2-459D-ABD7-B82C48FD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F4AB9F-A712-495B-BFAA-D0AA7680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C5D3-92F9-47EE-AD72-3B49CA95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829BE0-6C5C-4C20-B1B7-9646C751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07A46D-5BA4-4C3D-8A89-A793873A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2A0E82-EAAF-4CC2-9576-C5CC28D8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01E671-4BFB-4186-8762-DAFC4184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5BAFA-82E6-4364-931D-B66AFF3F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5959D5-186A-440D-B293-F93B6684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21CA31-C958-4E1D-A19D-EAEFE98E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EBC1B0-4797-48F9-8ED6-1D94BAEA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C116FE-3389-4F82-953E-957F4302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E0B02A-BE7D-473E-A541-AC52DD2D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DF72-6F37-493E-A26E-2F5CCA88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D91C7-D95A-407C-B2DA-3F14E798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A35ED3-ECF7-40B4-BBE6-BD68E981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F6E148-FB24-413D-8744-5560AAC6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57DD2C-D075-434C-A202-69085890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07F000-7769-4F59-BE3B-07002F05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532CC7-EC1F-4908-8C46-32359A48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83786B-6DAF-4F2D-8BB5-3451FC36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112109-AF09-4651-B164-C17A01CF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1B8353-557E-43CF-96F7-D6D420E0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311F2E-32BB-496C-BB2E-40960914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CBE8-C3E7-40AD-9C76-CBC209E7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37A76B-C9C1-446A-80A0-7DB2DACA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777A3E-C336-4F93-986E-FE0D4816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575762-CE59-4945-AB6C-0E98573E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0B7108-7FA4-426E-AFD2-A22A163E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633B88-CD40-4EF9-B2EC-92F8E484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96F889-AC38-47C9-A173-7A083BFC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4705C0-1BA6-4829-8E58-933E32A6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6C1B7E-15F0-413F-AE8F-3F74DD0C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8C5140-7250-4285-801D-3F023C2D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8884E0-0AFA-442A-9242-6E7B8557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373-B865-4039-BFBB-13C08FB0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CB26-4818-4AA4-ACCC-4CC58D50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7190C2-27C0-4FE9-8D44-240114C3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4BCB00-BCB6-4709-ABBE-B0C5501F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5E0395-462C-47F1-A5B3-8799EF05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35C4FE-E3D8-480C-97C6-9262A626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99F243-228B-4431-A48A-81B58946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EF80E6-2F0A-4479-883F-59ABF452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174CB1-6C47-44F5-A848-7128DBA3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376689-F37E-4192-BF4B-8AAF5A4D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B3E5A4-E710-4857-8336-0660AA2B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5E568E-CDDC-488D-BD4D-30AC6AEB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8FEC-407C-455E-A652-29BE0E23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C22D04-ED53-4C12-8CA2-C4B3096A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B25852-FBF9-42B2-AE86-9F448E6A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EECB96-F52D-4A3D-91EA-4B498B12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32D299-78D8-4FB6-B82B-9E650447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F4CA69-0197-4EEC-BB17-CD5FD0A8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6FB83-AEAE-4DC0-9B2F-9FB6B383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A39611-4E43-48D0-AA67-07907578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97F2EF-D082-4328-BBF5-6C79BFE5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373BB5-979A-431C-A046-7F105A81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9D3C5A-207E-4DBE-A715-96988010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9692-377F-4B92-9796-D4B5960D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14C4E2-78CB-4520-9958-5F56B286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AD272F-A691-465F-A45D-B1F0A525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9081AB-AE9C-4D93-8F53-0758FDD2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2EF3B4-62D4-46F5-8F8D-E8DB0CB0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608BAF-5AA2-477F-BCEB-70ADC5E8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6DF484-9893-47FF-AE90-5425058E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7875D4-D4C9-4574-873E-F55C3F3C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5DBB81-3083-4690-B825-0037C0CD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78AAC5-FD82-4528-9718-2B7DC272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C00060-DF30-425D-AAAF-0C75393D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B385-F529-40F4-A047-02D83ED7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987EB4-D1C0-4700-9805-06F08A2D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DB8F04-C96C-4467-AAF6-AD528065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4A3D27-D8ED-4935-97C0-F32373A4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7ED443-6DCB-4D26-869A-9FCE291C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2147C2-C266-4A22-BA8D-42C5CAC8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16D550-C17A-43CA-B14A-262F829A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88E180-1910-406F-BC90-93BD9A78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94FD70-31D2-41CC-B897-4828D4EC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473B0F-35CE-43DD-8418-5F87A869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66BA98-5F8B-46A5-A2F9-E3E89321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4E8B-FF25-4E0A-9FE2-6D2217C3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73F54C-494C-4267-B6D8-B9C29327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869CDB-C97B-4911-A4E3-64A33E79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DB9E22-9BBE-4B1E-9285-332B7269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A0FCF2-AE40-49EE-ABDD-0467D92C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71A7C8-CF27-4DF3-884D-A6F9521C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BC684F-E109-4F3B-B8DC-F9382935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93D7CA-D558-4F85-9053-734AB329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AEB6BA-C99E-4B9D-B356-95CA50E1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7009BB-42BF-459F-9433-EF786800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EF2A6C-B9AB-4D5B-8A70-684F65FB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343EE-41C0-4764-A886-BD1DA755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4BF170-FEE1-4794-9B13-07569D16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1AF33B-1591-4DB5-B9E3-7ED84331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81050B-2BF5-45E2-9176-AE609360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9A4F3E-5546-4F05-A612-0D98FAE3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2DAC06-F59B-47AD-8BAB-1BB87EED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6085F9-FDC3-4538-8846-A2F0A6D6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C4BBAE-79BB-4B59-A64C-DBFBC1C0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84FDE5-06BD-4DB0-A25E-015AC75C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21220C-4E70-439B-9463-C25FA512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2C7BB2-B9EE-4DA2-B4C5-A7BB5A30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8F4DF-D998-4680-AB6F-286C3C8B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0576AF-02F6-4FEC-8816-C1D4F556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1F7D64-43EF-4152-AE19-8BAA4D4F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D47797-623C-4DBA-A8E6-28F39AA3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5CEECA-C53B-46F4-A1A1-E4DF3B6E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AA6803-2A82-4EF1-B1CD-A74D1C83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1B3930-E7D5-40C4-895F-61C1C36B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9EAF06-C7A0-45B6-A20B-1E9BA7AE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4B5A1D-6B47-479B-B73F-12078E06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B8FA21-EC98-449E-9DE4-4B1265D7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76D2EA-1E0F-45C5-A176-7AE508C5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77937-45B7-4AF3-8085-0176D124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7A8E7B-0A71-451B-8BBD-EC1629A6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C22811-EF1D-47A2-9D7A-AC2CD8D7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45D2BF-D01E-4065-821E-D3B1525E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B82025-C317-4F4C-A8CA-C62FF68C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A355EE-137A-43A0-AECC-3F46E3A7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EB6104-28FE-4BB9-877E-C40C3BBD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D6BC6E-A488-40DF-BA84-50D6068C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C9727E-CECB-4A0F-BB99-CDF7C76D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1349B0-CC23-410D-B451-3AADFAE7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2382F4-D1AC-4B48-9771-1EEB14A1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C6912-B49F-48A5-904C-42C26315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F26885-DF6D-43C5-A573-C9F13369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48BE58-67AB-4894-B51A-60D2B874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2F7B81-761E-4337-A946-277FF3F4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34F04B-A5B1-412E-B6B8-8C4D7EA3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01C011-0887-441E-8A0E-00C02EB9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11DAB0-40CA-4F00-BDF8-B541265C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7D6341-97AF-4242-9795-4A8D828A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D50A18-CD02-4D37-9A49-C7C6C5A6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1A7D84-FFD5-48B9-A9B1-823D162A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2C939F-F62E-4C27-9128-0CEC8517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18713-8699-49CE-A2ED-DED69F90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C4AC17-8554-4BEE-B282-6E62A877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2AD8BF-E4B1-4BB6-BEEB-2CC34231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B5D388-53DC-4E9F-8925-38E04189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7989D7-8B84-4888-A48C-F56C9CCB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E5535F-52FE-4ECE-88D6-8EDA7F59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69174C-EEF7-49B8-86A6-17BB7B4E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28DE3C-456E-448B-A74C-152CA721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EFE53F-266A-488E-9455-B4914815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8B9FD6-DCBD-48F2-8B60-2A48BB2C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D3CB92-61FF-4C48-AC18-7537D6CA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FBE-3FF0-47E9-B73F-C373398C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F7FF8-DFDE-4BE1-B39C-15786F0F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8C91A5-A656-4A24-B11F-36B43F20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548B79-A681-4328-B41D-A27023F7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448296-25F6-4E23-9103-57A610D5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3EFFA0-01C6-46BA-97F6-CB9D8651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3BA732-3EF3-4844-9E4E-60144CCB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AE8D41-0996-46D9-A5C6-0DCA0D2A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576541-FF3F-48F7-98DE-65043D9A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EEE5A7-0A1F-4F28-97D6-AE3BEF28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8E2D6E-843E-4302-B292-A9E81604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473CCF-99E4-4DB7-B6AF-7327AAC4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24E96-1999-41D9-BA56-DA822F81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F9035B-A818-42F6-96D5-83B5AC76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958B76-5FE9-410A-BBDD-B550443F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5744F7-EB04-48F4-BC4B-6C9C9C12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14D83E-FFC2-4ED4-9FE0-5B56E9AA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A11B89-EA64-49D0-8DE6-583DDEA2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971849-0ECA-4332-8B59-7C903E48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25E3E3-BFA6-4090-9255-5EA7C363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9B21D5-6B7C-4EFB-9EC7-60F2BB6C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D6ECBB-9CF5-41CB-8850-A2526279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5D9223-68C6-4BF7-B0DE-300B0FA2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532EB-A29F-4D63-945F-81F89856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F20697-9BE3-4E35-A99D-F79AD7B3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3D128E-E852-43B8-986D-F96C4B71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687B61-BCFC-4681-9F9B-D625132A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BBEB6B-4C58-417C-B4A3-45B2A0DC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A6A7EA-74FB-44C2-B9D2-2A111C6B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8B1234-F815-4046-9AC7-17D1FEC9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E98F07-6D76-433C-A939-0E144980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94EC97-0E45-4B6F-8B22-E6864CDD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C0E657-6E60-49BE-A383-E686AAE6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6BE2CC-F679-4ABB-A885-D26B81BB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50AB1-034F-47CD-B2C0-75703973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CE2A59-B428-4541-BA1C-59CF63C5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DFE2EC-9A66-4109-99DB-16D4D75E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A800A8-7648-4A1E-9D1A-4F9640BE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1E1A57-3505-4CA0-9BE8-25CC7451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704FFE-2A93-474C-9156-8CD82078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1DFFCE-22F8-467E-8CB7-C3924D48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37C910-5321-4C8F-8249-E8D0F83C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582DAF-41D1-4D69-AA8E-9C1239EC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8419CF-DB5F-4B32-BDEF-45C721AE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CF01D9-CCDC-4D93-B4C2-35E6C947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E0B09-698E-4F7B-B332-8474F5AB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3CAB84-CFBE-4362-A461-E7713E21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154D43-0DFA-45C8-84D9-412FFE26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7B1699-FF19-4A55-AADF-6A4F4A2C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80285C-D653-48F0-9403-83970908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0DA9AB-719F-4F7D-9CB1-C27D5480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7F78FE-D9DC-4C0A-A299-D608A222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280FEF-F679-403B-BE78-3ABB78B7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022D44-0D85-420E-AD27-D23FFE56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D65D00-8112-46E6-AB34-F0A4D57B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668EF6-E1E8-44B1-AC04-9652C3B9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0CBA4-AB3E-4F1E-A6DD-66B51861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3C3E74-E6F6-4D1F-87D9-A733F51A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1C3972-588F-457C-A116-FAA1ACB3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9A5384-386C-4503-852E-D13D0A7A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8FC8F5-68C6-4230-B43A-9F3AAA9C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AF666B-1A4E-4082-98A7-568C6D35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59470A-1BE8-4D8D-9F43-3067B043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1EAE83-96D0-4635-A3C2-F7ACCAA0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FC98EA-6F12-48D8-88E6-0BBD0065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E6FB4C-80FF-4C5B-A16E-53E99D44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153967-E7EB-4C17-8169-41C573B5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EDEB8-CF72-419A-AD85-864B42ED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486A3C-C750-4397-B46F-97B6CFD1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57DCBE-EB9E-4382-93BD-8AA3332F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CDEC83-DDB1-4D15-9D4C-EF5CDA2C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49C026-17F3-465B-95A6-23E1EE5A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06F74A-6212-43A2-B5B3-0B8FF528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700619-8711-494E-8218-5BBCB4EC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9C2446-6821-490D-B1C0-065C0015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4DD0FD-28D9-4442-96B1-54060A56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27EC0B-D58F-48AE-A99C-69A9490F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F4941D-A9AD-4C84-9AAA-2ECFD23C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7A97C-A9AB-4EAA-B75B-AB6A32FA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7FDDBE-7EF1-4F0B-A921-E3E7F49A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4BFF81-615F-490F-B622-D11F68A4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2BF506-FD95-4174-9D22-56D8A533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12348-15A9-445C-B494-B463DF2F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5224E-FFE1-46D8-8FA2-1F8BCD8F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C946-3805-446D-9C8C-2DC1DDE5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307C6-FA3A-4843-B054-867C8B2F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93C0C-7C51-46C9-B0FA-F26F60F9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B2CBE-C2A1-4532-89B0-F649EA35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09A9E-CDF7-44C7-96FB-D6F0C628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D9D00-D5E1-4C35-9D93-A3D74FB1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44BF0-FB6A-4C2F-9EA0-5326DBD6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F3189-33B7-41CE-B42A-64F7D2C1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FAA81-39B1-43C1-9FD6-73D1FDD4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13E38-B659-4996-81B9-1333614A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0C5F4-A26C-4E95-B622-B96BA05B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AC2-B555-4657-B37B-89BB7677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4AE5D-5751-43A5-85B6-9E8FEB9C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B2D4F-75EA-40E2-BA61-F23C3CFB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2FE26-100C-449B-8224-C7B536F5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8FF42-C745-4F54-975D-AB3EBA3F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A1BC2-BD8F-46EA-949A-A34DA424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73EC0-32F0-4F83-B9F0-33A2D897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E0886-AA93-4084-9705-84D0766F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6CD66-4016-4A21-ACDA-2FBBA95E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F1A48-6638-47FD-8220-100CDED9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2AA50-DFFD-4954-A750-BC5D435E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694-5D25-4A67-8AFB-0DC88808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47661-97C1-42CF-9FD3-0B5F21FA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09C11-511A-4378-BD41-E08ECC97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99498-7F39-438C-90C4-E6528B62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8D3CE-CDB9-4F09-AAB2-3EAB9375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D8C67-9E12-406B-A009-7BB6AB8A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92D2D-FCEE-4AB4-9F63-9EC1F616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A5087-BB46-4EE8-9BC8-1768AEA3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2EE5A-BCF0-4973-A530-14D5D4BA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26736-C942-46FB-8235-903204C6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D0B46-6A68-4A85-80B4-F605C191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8C7-6D3D-472A-A3E2-00F27BCA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C1E36-A66B-4ACE-95CE-846559AD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8F33A-6FDF-46FD-B9BF-769D1ED9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7BF67-D7B5-43FC-A905-BF43F4AB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EE089-9D94-4EE8-8C4F-D4D3E5C5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8A0F1-20BC-4FDF-9AB6-AF1AA3CA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244A4-7A4B-4E9B-B80E-0F6098A8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22E58-46F3-4D35-A385-99AB28C9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CABEB-C874-44B7-B6AF-D6EFF760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A7C6D-C26F-43F1-B84B-0DE711F2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7FDFA-B494-4854-B181-91A0ADAD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2F0B-B2AA-4A84-80D1-21DB62D9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1A562-C6C4-4576-84A9-2692D381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F7B2D-4E69-4606-924A-4F51A7C1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DD419-9781-4B05-8BDD-D06FB561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C8628-222A-4295-9CC1-9D671532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ED22F-541E-44D8-9ABE-48488809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C9FE4-AA56-44B8-AE08-932226EA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E917D-337C-47DB-A258-E6009CA3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CE734-A790-4294-B3BA-CEB8FC2E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F447C-E58B-4D6F-8A99-F9C6A66A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D5358-CDB3-4F07-9C48-E0801612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E9D-C24F-4713-BE5A-AEA19F16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255F0-8471-4539-938E-079AF001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03B92-717E-4B08-A568-8B88292C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EC5E5-01D2-4077-9145-7ADD9B8E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7BC19-6461-4719-97DB-87CF1C0A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93967-D038-4FA1-966F-5919E9F4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E29E1-185E-48C5-88A5-3AA1E08C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2D631-AF10-45E3-9020-D384A257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8CF4F-11D3-44CC-BBD5-103EA624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EC2E3-5A9B-4AEC-9E05-A7B07378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B7349-B308-42C6-9F01-E18638F3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D0DB-180A-4D8C-AE65-E27BF9F891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E871-8636-4AFE-BFD8-358AEAEFFE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7669-80B3-4664-B096-DCE2636456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FEAB-E537-4A4A-80A0-3117FBD4E1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9C86-CEF4-44DE-BB2C-618F020426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DE63-D812-4AE2-8332-E389F2EF5C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C457-8654-401C-B410-B195C89C4E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F6A6-B2E0-4251-B4C7-74758A2FB3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0BEE-44F2-4E20-A565-92A284FC9F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81CA-8310-4C57-8D53-11F53F200D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4F65-E3E8-4756-960D-4FC5D94E3C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10BF-CBE8-48A7-B435-EC6E1C140C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255C-48BF-479A-8EF8-F05FEF6F42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EE5A-F69B-4488-8E71-E221E93EB2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42C8-82CA-4DD4-A721-CB9CC2D654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9772-A05D-43AC-9EF4-3DDFD78117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CA38-85B0-47AA-B936-CF6660B25A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E5BA-33ED-4EDD-B535-7560BD63C8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7F6C-9F38-4D81-9C9F-9F0C7ED552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2C9C-910E-46C9-BED4-1D22E6F72C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1BE2-2016-4B32-9575-14F0414850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E748-A4E8-4EAC-BF25-E37F4C224A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36C4-F2C1-4B07-BAF2-4B0A365051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7A56-1781-4C6A-8337-439B7FD855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A7DB-63B4-4F46-8A9D-E60900EBA6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DF65-58CC-4FD3-A0AC-043701B232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0937-ED0E-4C2A-80FA-EF099B010B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1A7E-FEC4-4A6C-A055-94ADFD0B8B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BF7E-A1AC-423B-9F89-8F78775F76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86B4-BF0B-4A38-A588-0BC6C33356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12A9-6B3D-46E7-B3CD-D9457D586A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A79B-6FCC-4974-92D5-AF2646FCD2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1CBC-BE32-4AC5-A477-E9920B72A1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F016-D517-4CBA-9F07-B68E60ED18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7002-0B2A-4E5E-B76E-C886C223FD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E349-AFCD-4ADF-A362-E484E5C158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8C95-0EF2-4882-825F-66C0F6BDEA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668D-00C6-4040-B8F2-92C5D3FA4F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5BF7-263B-4721-AA53-21453AEBFD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DC24-4EB6-419D-8616-24E0A9D3FD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5C53-877D-4E6B-99E5-9D83B84031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C79F-9DAF-4621-9BAC-2DBEEE697C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4C56-0E29-4FCA-94DB-CBDB9180DE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9D66-3E6E-4B05-AEF4-C2EB2C66A7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AD91-B2F8-48AF-8FB7-79C297D8D1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FCBB-8ED8-488E-8040-36CB12E113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6EEE-78FE-430F-BCC3-16DCBF89E2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A525-DB5E-424B-A604-8FE2141FDB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97EE-74D8-487F-8067-8C73BF8A31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8DE4-9787-4FBE-8D1F-45229A0E0D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4314600" cy="97164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3203640" y="2924280"/>
            <a:ext cx="2857320" cy="87624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971640" y="4365720"/>
            <a:ext cx="756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116737" descr=""/>
          <p:cNvPicPr/>
          <p:nvPr/>
        </p:nvPicPr>
        <p:blipFill>
          <a:blip r:embed="rId1"/>
          <a:stretch/>
        </p:blipFill>
        <p:spPr>
          <a:xfrm>
            <a:off x="480960" y="947880"/>
            <a:ext cx="8182080" cy="4962240"/>
          </a:xfrm>
          <a:prstGeom prst="rect">
            <a:avLst/>
          </a:prstGeom>
          <a:ln w="0">
            <a:noFill/>
          </a:ln>
        </p:spPr>
      </p:pic>
      <p:sp>
        <p:nvSpPr>
          <p:cNvPr id="1455" name="矩形 116738"/>
          <p:cNvSpPr/>
          <p:nvPr/>
        </p:nvSpPr>
        <p:spPr>
          <a:xfrm>
            <a:off x="4172040" y="290844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16739"/>
          <p:cNvSpPr/>
          <p:nvPr/>
        </p:nvSpPr>
        <p:spPr>
          <a:xfrm>
            <a:off x="4121280" y="340344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16740"/>
          <p:cNvSpPr/>
          <p:nvPr/>
        </p:nvSpPr>
        <p:spPr>
          <a:xfrm>
            <a:off x="4807080" y="3898800"/>
            <a:ext cx="8445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16741"/>
          <p:cNvSpPr/>
          <p:nvPr/>
        </p:nvSpPr>
        <p:spPr>
          <a:xfrm>
            <a:off x="4133880" y="439416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16742"/>
          <p:cNvSpPr/>
          <p:nvPr/>
        </p:nvSpPr>
        <p:spPr>
          <a:xfrm>
            <a:off x="4464000" y="488952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16743"/>
          <p:cNvSpPr/>
          <p:nvPr/>
        </p:nvSpPr>
        <p:spPr>
          <a:xfrm>
            <a:off x="4807080" y="537228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15719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039160" cy="5010120"/>
          </a:xfrm>
          <a:prstGeom prst="rect">
            <a:avLst/>
          </a:prstGeom>
          <a:ln w="0">
            <a:noFill/>
          </a:ln>
        </p:spPr>
      </p:pic>
      <p:sp>
        <p:nvSpPr>
          <p:cNvPr id="1462" name="矩形 115720"/>
          <p:cNvSpPr/>
          <p:nvPr/>
        </p:nvSpPr>
        <p:spPr>
          <a:xfrm>
            <a:off x="2700360" y="2997360"/>
            <a:ext cx="142704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5721"/>
          <p:cNvSpPr/>
          <p:nvPr/>
        </p:nvSpPr>
        <p:spPr>
          <a:xfrm>
            <a:off x="1989000" y="3975120"/>
            <a:ext cx="14274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5722"/>
          <p:cNvSpPr/>
          <p:nvPr/>
        </p:nvSpPr>
        <p:spPr>
          <a:xfrm>
            <a:off x="4859280" y="4978440"/>
            <a:ext cx="367344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5723"/>
          <p:cNvSpPr/>
          <p:nvPr/>
        </p:nvSpPr>
        <p:spPr>
          <a:xfrm>
            <a:off x="1116000" y="5445000"/>
            <a:ext cx="142704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114689" descr=""/>
          <p:cNvPicPr/>
          <p:nvPr/>
        </p:nvPicPr>
        <p:blipFill>
          <a:blip r:embed="rId1"/>
          <a:stretch/>
        </p:blipFill>
        <p:spPr>
          <a:xfrm>
            <a:off x="690480" y="2610000"/>
            <a:ext cx="7763040" cy="1638000"/>
          </a:xfrm>
          <a:prstGeom prst="rect">
            <a:avLst/>
          </a:prstGeom>
          <a:ln w="0">
            <a:noFill/>
          </a:ln>
        </p:spPr>
      </p:pic>
      <p:sp>
        <p:nvSpPr>
          <p:cNvPr id="1467" name="矩形 114691"/>
          <p:cNvSpPr/>
          <p:nvPr/>
        </p:nvSpPr>
        <p:spPr>
          <a:xfrm>
            <a:off x="2004840" y="3768840"/>
            <a:ext cx="127188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13665" descr=""/>
          <p:cNvPicPr/>
          <p:nvPr/>
        </p:nvPicPr>
        <p:blipFill>
          <a:blip r:embed="rId1"/>
          <a:stretch/>
        </p:blipFill>
        <p:spPr>
          <a:xfrm>
            <a:off x="490680" y="1366920"/>
            <a:ext cx="8162640" cy="4124160"/>
          </a:xfrm>
          <a:prstGeom prst="rect">
            <a:avLst/>
          </a:prstGeom>
          <a:ln w="0">
            <a:noFill/>
          </a:ln>
        </p:spPr>
      </p:pic>
      <p:sp>
        <p:nvSpPr>
          <p:cNvPr id="1469" name="矩形 113666"/>
          <p:cNvSpPr/>
          <p:nvPr/>
        </p:nvSpPr>
        <p:spPr>
          <a:xfrm>
            <a:off x="4037040" y="2892600"/>
            <a:ext cx="115236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3667"/>
          <p:cNvSpPr/>
          <p:nvPr/>
        </p:nvSpPr>
        <p:spPr>
          <a:xfrm>
            <a:off x="2754360" y="3400560"/>
            <a:ext cx="115236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3668"/>
          <p:cNvSpPr/>
          <p:nvPr/>
        </p:nvSpPr>
        <p:spPr>
          <a:xfrm>
            <a:off x="1751040" y="4987800"/>
            <a:ext cx="73332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112641" descr=""/>
          <p:cNvPicPr/>
          <p:nvPr/>
        </p:nvPicPr>
        <p:blipFill>
          <a:blip r:embed="rId1"/>
          <a:stretch/>
        </p:blipFill>
        <p:spPr>
          <a:xfrm>
            <a:off x="480960" y="1095480"/>
            <a:ext cx="8182080" cy="4667040"/>
          </a:xfrm>
          <a:prstGeom prst="rect">
            <a:avLst/>
          </a:prstGeom>
          <a:ln w="0">
            <a:noFill/>
          </a:ln>
        </p:spPr>
      </p:pic>
      <p:sp>
        <p:nvSpPr>
          <p:cNvPr id="1473" name="矩形 112642"/>
          <p:cNvSpPr/>
          <p:nvPr/>
        </p:nvSpPr>
        <p:spPr>
          <a:xfrm>
            <a:off x="2081160" y="5254560"/>
            <a:ext cx="142704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2643"/>
          <p:cNvSpPr/>
          <p:nvPr/>
        </p:nvSpPr>
        <p:spPr>
          <a:xfrm>
            <a:off x="4430880" y="5241960"/>
            <a:ext cx="100476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2644"/>
          <p:cNvSpPr/>
          <p:nvPr/>
        </p:nvSpPr>
        <p:spPr>
          <a:xfrm>
            <a:off x="6386400" y="5216400"/>
            <a:ext cx="100512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111617" descr=""/>
          <p:cNvPicPr/>
          <p:nvPr/>
        </p:nvPicPr>
        <p:blipFill>
          <a:blip r:embed="rId1"/>
          <a:stretch/>
        </p:blipFill>
        <p:spPr>
          <a:xfrm>
            <a:off x="919080" y="2119320"/>
            <a:ext cx="7305840" cy="2619360"/>
          </a:xfrm>
          <a:prstGeom prst="rect">
            <a:avLst/>
          </a:prstGeom>
          <a:ln w="0">
            <a:noFill/>
          </a:ln>
        </p:spPr>
      </p:pic>
      <p:sp>
        <p:nvSpPr>
          <p:cNvPr id="1477" name="矩形 111618"/>
          <p:cNvSpPr/>
          <p:nvPr/>
        </p:nvSpPr>
        <p:spPr>
          <a:xfrm>
            <a:off x="2386080" y="2689200"/>
            <a:ext cx="254628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1619"/>
          <p:cNvSpPr/>
          <p:nvPr/>
        </p:nvSpPr>
        <p:spPr>
          <a:xfrm>
            <a:off x="2360520" y="3387600"/>
            <a:ext cx="41562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1620"/>
          <p:cNvSpPr/>
          <p:nvPr/>
        </p:nvSpPr>
        <p:spPr>
          <a:xfrm>
            <a:off x="2284560" y="4098960"/>
            <a:ext cx="415584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110593" descr=""/>
          <p:cNvPicPr/>
          <p:nvPr/>
        </p:nvPicPr>
        <p:blipFill>
          <a:blip r:embed="rId1"/>
          <a:stretch/>
        </p:blipFill>
        <p:spPr>
          <a:xfrm>
            <a:off x="409680" y="1433520"/>
            <a:ext cx="8324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109569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191440" cy="3162600"/>
          </a:xfrm>
          <a:prstGeom prst="rect">
            <a:avLst/>
          </a:prstGeom>
          <a:ln w="0">
            <a:noFill/>
          </a:ln>
        </p:spPr>
      </p:pic>
      <p:sp>
        <p:nvSpPr>
          <p:cNvPr id="1482" name="矩形 109570"/>
          <p:cNvSpPr/>
          <p:nvPr/>
        </p:nvSpPr>
        <p:spPr>
          <a:xfrm>
            <a:off x="7135920" y="2181240"/>
            <a:ext cx="142704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09571"/>
          <p:cNvSpPr/>
          <p:nvPr/>
        </p:nvSpPr>
        <p:spPr>
          <a:xfrm>
            <a:off x="1547640" y="2739960"/>
            <a:ext cx="24480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09572"/>
          <p:cNvSpPr/>
          <p:nvPr/>
        </p:nvSpPr>
        <p:spPr>
          <a:xfrm>
            <a:off x="5002200" y="2727360"/>
            <a:ext cx="353052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09573"/>
          <p:cNvSpPr/>
          <p:nvPr/>
        </p:nvSpPr>
        <p:spPr>
          <a:xfrm>
            <a:off x="1433520" y="3260880"/>
            <a:ext cx="364320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09574"/>
          <p:cNvSpPr/>
          <p:nvPr/>
        </p:nvSpPr>
        <p:spPr>
          <a:xfrm>
            <a:off x="4481640" y="4302000"/>
            <a:ext cx="340344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图片 108545" descr=""/>
          <p:cNvPicPr/>
          <p:nvPr/>
        </p:nvPicPr>
        <p:blipFill>
          <a:blip r:embed="rId1"/>
          <a:stretch/>
        </p:blipFill>
        <p:spPr>
          <a:xfrm>
            <a:off x="414360" y="1628640"/>
            <a:ext cx="83152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07521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077320" cy="496260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07522"/>
          <p:cNvSpPr/>
          <p:nvPr/>
        </p:nvSpPr>
        <p:spPr>
          <a:xfrm>
            <a:off x="1738440" y="4124160"/>
            <a:ext cx="585792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07523"/>
          <p:cNvSpPr/>
          <p:nvPr/>
        </p:nvSpPr>
        <p:spPr>
          <a:xfrm>
            <a:off x="1674720" y="5064120"/>
            <a:ext cx="404964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29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219880" cy="203832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4930"/>
          <p:cNvSpPr/>
          <p:nvPr/>
        </p:nvSpPr>
        <p:spPr>
          <a:xfrm>
            <a:off x="7956720" y="321300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1" name="图片 106498" descr=""/>
          <p:cNvPicPr/>
          <p:nvPr/>
        </p:nvPicPr>
        <p:blipFill>
          <a:blip r:embed="rId1"/>
          <a:stretch/>
        </p:blipFill>
        <p:spPr>
          <a:xfrm>
            <a:off x="676440" y="2914560"/>
            <a:ext cx="7791120" cy="1028880"/>
          </a:xfrm>
          <a:prstGeom prst="rect">
            <a:avLst/>
          </a:prstGeom>
          <a:ln w="0">
            <a:noFill/>
          </a:ln>
        </p:spPr>
      </p:pic>
      <p:sp>
        <p:nvSpPr>
          <p:cNvPr id="1492" name="矩形 106499"/>
          <p:cNvSpPr/>
          <p:nvPr/>
        </p:nvSpPr>
        <p:spPr>
          <a:xfrm>
            <a:off x="3693960" y="3451320"/>
            <a:ext cx="419112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图片 125953" descr=""/>
          <p:cNvPicPr/>
          <p:nvPr/>
        </p:nvPicPr>
        <p:blipFill>
          <a:blip r:embed="rId1"/>
          <a:stretch/>
        </p:blipFill>
        <p:spPr>
          <a:xfrm>
            <a:off x="385920" y="1123920"/>
            <a:ext cx="8372160" cy="4610160"/>
          </a:xfrm>
          <a:prstGeom prst="rect">
            <a:avLst/>
          </a:prstGeom>
          <a:ln w="0">
            <a:noFill/>
          </a:ln>
        </p:spPr>
      </p:pic>
      <p:sp>
        <p:nvSpPr>
          <p:cNvPr id="1494" name="矩形 125954"/>
          <p:cNvSpPr/>
          <p:nvPr/>
        </p:nvSpPr>
        <p:spPr>
          <a:xfrm>
            <a:off x="6869160" y="3832200"/>
            <a:ext cx="142704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25955"/>
          <p:cNvSpPr/>
          <p:nvPr/>
        </p:nvSpPr>
        <p:spPr>
          <a:xfrm>
            <a:off x="2182680" y="4314960"/>
            <a:ext cx="142740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25956"/>
          <p:cNvSpPr/>
          <p:nvPr/>
        </p:nvSpPr>
        <p:spPr>
          <a:xfrm>
            <a:off x="7986600" y="4772160"/>
            <a:ext cx="54612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25957"/>
          <p:cNvSpPr/>
          <p:nvPr/>
        </p:nvSpPr>
        <p:spPr>
          <a:xfrm>
            <a:off x="1611360" y="5241960"/>
            <a:ext cx="23130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图片 126977" descr=""/>
          <p:cNvPicPr/>
          <p:nvPr/>
        </p:nvPicPr>
        <p:blipFill>
          <a:blip r:embed="rId1"/>
          <a:stretch/>
        </p:blipFill>
        <p:spPr>
          <a:xfrm>
            <a:off x="495360" y="1052640"/>
            <a:ext cx="8153280" cy="4752720"/>
          </a:xfrm>
          <a:prstGeom prst="rect">
            <a:avLst/>
          </a:prstGeom>
          <a:ln w="0">
            <a:noFill/>
          </a:ln>
        </p:spPr>
      </p:pic>
      <p:sp>
        <p:nvSpPr>
          <p:cNvPr id="1499" name="矩形 126978"/>
          <p:cNvSpPr/>
          <p:nvPr/>
        </p:nvSpPr>
        <p:spPr>
          <a:xfrm>
            <a:off x="4659480" y="1546200"/>
            <a:ext cx="77616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26979"/>
          <p:cNvSpPr/>
          <p:nvPr/>
        </p:nvSpPr>
        <p:spPr>
          <a:xfrm>
            <a:off x="4113360" y="2016000"/>
            <a:ext cx="434628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26980"/>
          <p:cNvSpPr/>
          <p:nvPr/>
        </p:nvSpPr>
        <p:spPr>
          <a:xfrm>
            <a:off x="1611360" y="2511360"/>
            <a:ext cx="23130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26981"/>
          <p:cNvSpPr/>
          <p:nvPr/>
        </p:nvSpPr>
        <p:spPr>
          <a:xfrm>
            <a:off x="1979640" y="3438360"/>
            <a:ext cx="216072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26982"/>
          <p:cNvSpPr/>
          <p:nvPr/>
        </p:nvSpPr>
        <p:spPr>
          <a:xfrm>
            <a:off x="4989600" y="3438360"/>
            <a:ext cx="167004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126983"/>
          <p:cNvSpPr/>
          <p:nvPr/>
        </p:nvSpPr>
        <p:spPr>
          <a:xfrm>
            <a:off x="5332320" y="3921120"/>
            <a:ext cx="77652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26984"/>
          <p:cNvSpPr/>
          <p:nvPr/>
        </p:nvSpPr>
        <p:spPr>
          <a:xfrm>
            <a:off x="7389720" y="3933720"/>
            <a:ext cx="11430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26985"/>
          <p:cNvSpPr/>
          <p:nvPr/>
        </p:nvSpPr>
        <p:spPr>
          <a:xfrm>
            <a:off x="1573200" y="4390920"/>
            <a:ext cx="227808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26986"/>
          <p:cNvSpPr/>
          <p:nvPr/>
        </p:nvSpPr>
        <p:spPr>
          <a:xfrm>
            <a:off x="5268960" y="4873680"/>
            <a:ext cx="326376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26987"/>
          <p:cNvSpPr/>
          <p:nvPr/>
        </p:nvSpPr>
        <p:spPr>
          <a:xfrm>
            <a:off x="1306440" y="5356080"/>
            <a:ext cx="657864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9" name="图片 128001" descr=""/>
          <p:cNvPicPr/>
          <p:nvPr/>
        </p:nvPicPr>
        <p:blipFill>
          <a:blip r:embed="rId1"/>
          <a:stretch/>
        </p:blipFill>
        <p:spPr>
          <a:xfrm>
            <a:off x="438120" y="2262240"/>
            <a:ext cx="82677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图片 129026" descr=""/>
          <p:cNvPicPr/>
          <p:nvPr/>
        </p:nvPicPr>
        <p:blipFill>
          <a:blip r:embed="rId1"/>
          <a:stretch/>
        </p:blipFill>
        <p:spPr>
          <a:xfrm>
            <a:off x="704880" y="1676520"/>
            <a:ext cx="7734240" cy="3504960"/>
          </a:xfrm>
          <a:prstGeom prst="rect">
            <a:avLst/>
          </a:prstGeom>
          <a:ln w="0">
            <a:noFill/>
          </a:ln>
        </p:spPr>
      </p:pic>
      <p:sp>
        <p:nvSpPr>
          <p:cNvPr id="1511" name="矩形 129027"/>
          <p:cNvSpPr/>
          <p:nvPr/>
        </p:nvSpPr>
        <p:spPr>
          <a:xfrm>
            <a:off x="1027080" y="1685880"/>
            <a:ext cx="743256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129028"/>
          <p:cNvSpPr/>
          <p:nvPr/>
        </p:nvSpPr>
        <p:spPr>
          <a:xfrm>
            <a:off x="1065240" y="2155680"/>
            <a:ext cx="743256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129029"/>
          <p:cNvSpPr/>
          <p:nvPr/>
        </p:nvSpPr>
        <p:spPr>
          <a:xfrm>
            <a:off x="861840" y="2651040"/>
            <a:ext cx="743292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129030"/>
          <p:cNvSpPr/>
          <p:nvPr/>
        </p:nvSpPr>
        <p:spPr>
          <a:xfrm>
            <a:off x="988920" y="3133800"/>
            <a:ext cx="743292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矩形 129031"/>
          <p:cNvSpPr/>
          <p:nvPr/>
        </p:nvSpPr>
        <p:spPr>
          <a:xfrm>
            <a:off x="824040" y="3578400"/>
            <a:ext cx="7432560" cy="62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矩形 129032"/>
          <p:cNvSpPr/>
          <p:nvPr/>
        </p:nvSpPr>
        <p:spPr>
          <a:xfrm>
            <a:off x="912960" y="4251240"/>
            <a:ext cx="74325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7" name="图片 130049" descr=""/>
          <p:cNvPicPr/>
          <p:nvPr/>
        </p:nvPicPr>
        <p:blipFill>
          <a:blip r:embed="rId1"/>
          <a:stretch/>
        </p:blipFill>
        <p:spPr>
          <a:xfrm>
            <a:off x="628560" y="2128680"/>
            <a:ext cx="7886880" cy="2600640"/>
          </a:xfrm>
          <a:prstGeom prst="rect">
            <a:avLst/>
          </a:prstGeom>
          <a:ln w="0">
            <a:noFill/>
          </a:ln>
        </p:spPr>
      </p:pic>
      <p:sp>
        <p:nvSpPr>
          <p:cNvPr id="1518" name="矩形 130050"/>
          <p:cNvSpPr/>
          <p:nvPr/>
        </p:nvSpPr>
        <p:spPr>
          <a:xfrm>
            <a:off x="1179360" y="2205000"/>
            <a:ext cx="7353360" cy="7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130051"/>
          <p:cNvSpPr/>
          <p:nvPr/>
        </p:nvSpPr>
        <p:spPr>
          <a:xfrm>
            <a:off x="1039680" y="3095640"/>
            <a:ext cx="778032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130052"/>
          <p:cNvSpPr/>
          <p:nvPr/>
        </p:nvSpPr>
        <p:spPr>
          <a:xfrm>
            <a:off x="932040" y="3517920"/>
            <a:ext cx="778032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矩形 130053"/>
          <p:cNvSpPr/>
          <p:nvPr/>
        </p:nvSpPr>
        <p:spPr>
          <a:xfrm>
            <a:off x="874800" y="3984480"/>
            <a:ext cx="778032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6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12390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25000" cy="4638600"/>
          </a:xfrm>
          <a:prstGeom prst="rect">
            <a:avLst/>
          </a:prstGeom>
          <a:ln w="0">
            <a:noFill/>
          </a:ln>
        </p:spPr>
      </p:pic>
      <p:sp>
        <p:nvSpPr>
          <p:cNvPr id="1438" name="矩形 123906"/>
          <p:cNvSpPr/>
          <p:nvPr/>
        </p:nvSpPr>
        <p:spPr>
          <a:xfrm>
            <a:off x="7812000" y="184464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122881" descr=""/>
          <p:cNvPicPr/>
          <p:nvPr/>
        </p:nvPicPr>
        <p:blipFill>
          <a:blip r:embed="rId1"/>
          <a:stretch/>
        </p:blipFill>
        <p:spPr>
          <a:xfrm>
            <a:off x="471600" y="1500120"/>
            <a:ext cx="8200800" cy="3857760"/>
          </a:xfrm>
          <a:prstGeom prst="rect">
            <a:avLst/>
          </a:prstGeom>
          <a:ln w="0">
            <a:noFill/>
          </a:ln>
        </p:spPr>
      </p:pic>
      <p:sp>
        <p:nvSpPr>
          <p:cNvPr id="1440" name="矩形 122882"/>
          <p:cNvSpPr/>
          <p:nvPr/>
        </p:nvSpPr>
        <p:spPr>
          <a:xfrm>
            <a:off x="7885080" y="306864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121857" descr=""/>
          <p:cNvPicPr/>
          <p:nvPr/>
        </p:nvPicPr>
        <p:blipFill>
          <a:blip r:embed="rId1"/>
          <a:stretch/>
        </p:blipFill>
        <p:spPr>
          <a:xfrm>
            <a:off x="419040" y="1228680"/>
            <a:ext cx="8305920" cy="4400640"/>
          </a:xfrm>
          <a:prstGeom prst="rect">
            <a:avLst/>
          </a:prstGeom>
          <a:ln w="0">
            <a:noFill/>
          </a:ln>
        </p:spPr>
      </p:pic>
      <p:sp>
        <p:nvSpPr>
          <p:cNvPr id="1442" name="矩形 121858"/>
          <p:cNvSpPr/>
          <p:nvPr/>
        </p:nvSpPr>
        <p:spPr>
          <a:xfrm>
            <a:off x="7812000" y="170028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1859"/>
          <p:cNvSpPr/>
          <p:nvPr/>
        </p:nvSpPr>
        <p:spPr>
          <a:xfrm>
            <a:off x="7799400" y="316080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0833" descr=""/>
          <p:cNvPicPr/>
          <p:nvPr/>
        </p:nvPicPr>
        <p:blipFill>
          <a:blip r:embed="rId1"/>
          <a:stretch/>
        </p:blipFill>
        <p:spPr>
          <a:xfrm>
            <a:off x="433440" y="1914480"/>
            <a:ext cx="8277120" cy="3029040"/>
          </a:xfrm>
          <a:prstGeom prst="rect">
            <a:avLst/>
          </a:prstGeom>
          <a:ln w="0">
            <a:noFill/>
          </a:ln>
        </p:spPr>
      </p:pic>
      <p:sp>
        <p:nvSpPr>
          <p:cNvPr id="1445" name="矩形 120834"/>
          <p:cNvSpPr/>
          <p:nvPr/>
        </p:nvSpPr>
        <p:spPr>
          <a:xfrm>
            <a:off x="7812000" y="256536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119809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20240" cy="3162240"/>
          </a:xfrm>
          <a:prstGeom prst="rect">
            <a:avLst/>
          </a:prstGeom>
          <a:ln w="0">
            <a:noFill/>
          </a:ln>
        </p:spPr>
      </p:pic>
      <p:pic>
        <p:nvPicPr>
          <p:cNvPr id="1447" name="图片 119810" descr=""/>
          <p:cNvPicPr/>
          <p:nvPr/>
        </p:nvPicPr>
        <p:blipFill>
          <a:blip r:embed="rId2"/>
          <a:stretch/>
        </p:blipFill>
        <p:spPr>
          <a:xfrm>
            <a:off x="743040" y="4162320"/>
            <a:ext cx="6905520" cy="1447920"/>
          </a:xfrm>
          <a:prstGeom prst="rect">
            <a:avLst/>
          </a:prstGeom>
          <a:ln w="0">
            <a:noFill/>
          </a:ln>
        </p:spPr>
      </p:pic>
      <p:sp>
        <p:nvSpPr>
          <p:cNvPr id="1448" name="矩形 119811"/>
          <p:cNvSpPr/>
          <p:nvPr/>
        </p:nvSpPr>
        <p:spPr>
          <a:xfrm>
            <a:off x="7885080" y="112536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图片 118785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10520" cy="5438880"/>
          </a:xfrm>
          <a:prstGeom prst="rect">
            <a:avLst/>
          </a:prstGeom>
          <a:ln w="0">
            <a:noFill/>
          </a:ln>
        </p:spPr>
      </p:pic>
      <p:sp>
        <p:nvSpPr>
          <p:cNvPr id="1450" name="矩形 118786"/>
          <p:cNvSpPr/>
          <p:nvPr/>
        </p:nvSpPr>
        <p:spPr>
          <a:xfrm>
            <a:off x="7812000" y="141300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117761" descr=""/>
          <p:cNvPicPr/>
          <p:nvPr/>
        </p:nvPicPr>
        <p:blipFill>
          <a:blip r:embed="rId1"/>
          <a:stretch/>
        </p:blipFill>
        <p:spPr>
          <a:xfrm>
            <a:off x="447840" y="1252440"/>
            <a:ext cx="8248320" cy="4353120"/>
          </a:xfrm>
          <a:prstGeom prst="rect">
            <a:avLst/>
          </a:prstGeom>
          <a:ln w="0">
            <a:noFill/>
          </a:ln>
        </p:spPr>
      </p:pic>
      <p:sp>
        <p:nvSpPr>
          <p:cNvPr id="1452" name="矩形 117762"/>
          <p:cNvSpPr/>
          <p:nvPr/>
        </p:nvSpPr>
        <p:spPr>
          <a:xfrm>
            <a:off x="7885080" y="170028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17763"/>
          <p:cNvSpPr/>
          <p:nvPr/>
        </p:nvSpPr>
        <p:spPr>
          <a:xfrm>
            <a:off x="7885080" y="322416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1:59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